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B03D-D698-4B65-947F-DFD232F4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6A14-ED64-41C0-8BDE-A62D23F8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848C-1204-4C5C-93E4-16CF9785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2899-352A-4AB4-800A-30ABAF17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BF1-64EC-416C-B5BC-0B8814AF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8C95-5E6F-48AC-A864-024FAFAA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2F6-ADFE-4B91-AF47-CA8E556A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77A6-7724-4067-9A78-48AC7374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E185-A02B-4012-9644-89EC3B61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1DB-4AAE-4F10-AFD9-43BFFB84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6305-26FF-4772-848A-8B0D3175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1C3-2033-4599-AC97-F2BA0FBE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0143-E1FC-4298-A207-5590AF850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72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Pristina"/>
              </a:rPr>
              <a:t>This Is Just To Say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Keith &amp; Rich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Pristina"/>
              </a:rPr>
              <a:t>I have hamsters in my room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Pristina"/>
              </a:rPr>
              <a:t>They are brown and whit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Pristina"/>
              </a:rPr>
              <a:t>They are in a hamster whee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76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Pristina"/>
              </a:rPr>
              <a:t>And which they exercise too much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Pristina"/>
              </a:rPr>
              <a:t>You probably scared the hamster out of his pants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80880" y="35053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Pristina"/>
              </a:rPr>
              <a:t>Forgive me;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Pristina"/>
              </a:rPr>
              <a:t>they have escaped and are fugitiv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Pristina"/>
              </a:rPr>
              <a:t>Now I must find them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ristina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kagami, k., and Stinging  Eyes. "Welcome to Flickr - Photo Sharing."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elcome to Flickr - Photo Sha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16 Apr. 2009 &lt;http://www.flickr.com&gt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sselring, Kyle . "Welcome to Flickr - Photo Sharing."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elcome to Flickr - Photo Sha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16 Apr. 2009 &lt;http://www.flickr.com&gt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3:16:33Z</dcterms:created>
  <dc:creator>Admin</dc:creator>
  <dc:description/>
  <dc:language>en-US</dc:language>
  <cp:lastModifiedBy>cyndi.vander_ven</cp:lastModifiedBy>
  <dcterms:modified xsi:type="dcterms:W3CDTF">2009-04-27T01:58:13Z</dcterms:modified>
  <cp:revision>10</cp:revision>
  <dc:subject/>
  <dc:title>This Is Just To Say</dc:title>
</cp:coreProperties>
</file>